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008-C8AC-4D6B-B649-9D62A9AC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BEF-DB15-45F9-B00C-AE742697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4EB-C675-49D0-A798-17A47DC1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2C4-614E-4104-8565-776BC8D7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8E2-7ACB-4F35-A640-996C6745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B4F-8530-464A-8648-39AB51A8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CE3-518B-4813-8FF3-2F88A492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E62-CF72-4141-8F2D-953E20A4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BB1-FECA-4234-82A7-6E3078A1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8B1-B5C7-4366-ABCC-5BA5991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2C7-48FF-4081-94E5-50D951C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EC3-4F07-47AD-9CB2-C9204D5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B56-BB01-4D11-A256-D564F956E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1641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Merkel und Steinmeier versprachen uns vor einem Jahr einen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ang anhaltenden Aufschwung bis 2020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Rechtzeitig zur Bundestagswahlkampagne erklärten die Spitzenpolitiker der Berliner Parteien die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Wirtschaftskrise einfach für beendet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Die Frage ist natürlich, ob die Krise ihnen den Gefallen tut und aufhört, nur weil diese Leute ihr Ende ausruf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Wir wollen euch die Denk- und Handlungsweise der Manager und Politiker an einem konkreten Beispiel mal verständlich ma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0464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Eine Weisheit der Dakota-Indianer...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204012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1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Wir nehmen folgende Situation a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0000" cy="5266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81184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sere Manager entdecken, dass sie ein totes Pferd reite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616572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Was machen sie 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437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Nach folgenden Strategien wird dann gehande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346560" cy="398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48625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höhen die Qualitätsstandar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ür den Beritt toter Pfe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besuchen Orte in de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o man angeblich erfolgreich t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erde rei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05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lassen wissenschaftliche Methoden zu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ederbelebung toter Pfer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wick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229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Werbekampagne „Vorzüge des Reitens toter Pfe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0360" y="40464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830920"/>
            <a:ext cx="84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r legen in einer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ufwendigen Werbekampag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den Medien 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lkshows die Vorzüge des Reitens toter Pferde 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2861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forder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atliche Zuschüs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ür die Fütterung der toten Pfer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86200" y="404640"/>
            <a:ext cx="3171600" cy="374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4653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lasse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tiker erklär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das Reiten toter Pferde se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ystemrelevan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d müsse unbedingt mit öffentlichen Milliardensubventionen aufrecht erhalten werden. Nur so könnten Arbeitsplätze gesicher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6088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veranlassen auf dem nächsten G 20 – Gipfeltreffen die Verabschiedung einer Erklärung, nach der das freiheitlich-demokratische Reiten toter Pferde weltwei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s Beste aller denkbaren Syste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e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4149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Überwachung der „Mitglieder Lebender Pferde Deutschlands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84720" cy="36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4508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installiere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deokameras und überwach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uch die privaten Computer aller Beschäftigten, um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ritiker des System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s Reitens toter Pferde aufzuspü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r erklären jeden, der behauptet, dass es eine Alternative zum System des Reitens toter Pferde gäbe, zum Verfassungsfeind und die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itglieder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ebender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ferde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eutschlands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abgekürzt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MLP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zu einer Bedrohung für unsere öffentliche Ordn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869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Strategie der Dakota-India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73200" y="40464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r ersparen Ihnen weitere Managerstrategien und verraten Ihnen stattdessen, die Strategie der Dakota-India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877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e besagt: Wenn du entdeckst, dass du ein totes Pferd reite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6237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…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Steig 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48428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Nähere Infos unter www.mlp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61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Viele Dakota-Indianer würden übrigens MLPD wäh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2:22:16Z</dcterms:created>
  <dc:creator>Administrator</dc:creator>
  <dc:description/>
  <dc:language>en-US</dc:language>
  <cp:lastModifiedBy>ref</cp:lastModifiedBy>
  <dcterms:modified xsi:type="dcterms:W3CDTF">2009-09-22T13:32:23Z</dcterms:modified>
  <cp:revision>16</cp:revision>
  <dc:subject/>
  <dc:title>Folie 1</dc:title>
</cp:coreProperties>
</file>