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ACB-4209-4262-BEDF-0B84B00F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3A9-83DB-455B-BF74-79BBFCE4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5E06-FB2F-4F4B-BE9A-89151AB6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91C-1BFC-4C5E-BF4F-76940730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243-1DE4-4E2A-8116-9A72021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039-7E1B-45B3-86F7-4351B60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C45-9EA1-4C9D-8D1A-2ABED91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A81-A756-4FAB-82A1-3ACD5EAD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3E2-666A-4BD7-A8D3-9437166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CE5-379E-4B83-8BE2-AF9517F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E44-3240-47C9-B5EB-D6638B3B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B28-F3A5-48FA-9433-EF79B9F7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D632-F638-4068-AE1F-A7C83DF08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41641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Merkel und Steinmeier versprachen uns vor einem Jahr einen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lang anhaltenden Aufschwung bis 2020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Rechtzeitig zur Bundestagswahlkampagne erklärten die Spitzenpolitiker der Berliner Parteien die </a:t>
            </a:r>
            <a:r>
              <a:rPr b="1" lang="de-DE" sz="1800" spc="-1" strike="noStrike">
                <a:solidFill>
                  <a:srgbClr val="ffffff"/>
                </a:solidFill>
                <a:latin typeface="Tahoma"/>
              </a:rPr>
              <a:t>Wirtschaftskrise einfach für beendet</a:t>
            </a: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. Die Frage ist natürlich, ob die Krise ihnen den Gefallen tut und aufhört, nur weil diese Leute ihr Ende ausruf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Wir wollen euch die Denk- und Handlungsweise der Manager und Politiker an einem konkreten Beispiel mal verständlich ma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40464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Eine Weisheit der Dakota-Indianer...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1125360"/>
            <a:ext cx="2040120" cy="2808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16572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Wir nehmen folgende Situation an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20000" cy="5266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581184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Unsere Manager entdecken, dass sie ein totes Pferd reiten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16360" y="6165720"/>
            <a:ext cx="31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Was machen sie 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437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Nach folgenden Strategien wird dann gehande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346560" cy="398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48625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höhen die Qualitätsstandard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ür den Beritt toter Pfer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besuchen Orte in de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wo man angeblich erfolgreich t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ferde reit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805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Wir lassen wissenschaftliche Methoden zu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ederbelebung toter Pfer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wickel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5229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Werbekampagne „Vorzüge des Reitens toter Pfe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0360" y="404640"/>
            <a:ext cx="4283280" cy="453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830920"/>
            <a:ext cx="849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r legen in einer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ufwendigen Werbekampagn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in den Medien un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lkshows die Vorzüge des Reitens toter Pferde 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2861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forder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atliche Zuschüss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für die Fütterung der toten Pfer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86200" y="404640"/>
            <a:ext cx="3171600" cy="3745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4000" y="46530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lasse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litiker erklär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 das Reiten toter Pferde sei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ystemrelevan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d müsse unbedingt mit öffentlichen Milliardensubventionen aufrecht erhalten werden. Nur so könnten Arbeitsplätze gesichert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60880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veranlassen auf dem nächsten G 20 – Gipfeltreffen die Verabschiedung einer Erklärung, nach der das freiheitlich-demokratische Reiten toter Pferde weltweit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as Beste aller denkbaren Syste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se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414972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Überwachung der „Mitglieder Lebender Pferde Deutschlands“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184720" cy="360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450864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Wir installieren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deokameras und überwache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uch die privaten Computer aller Beschäftigten, um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ritiker des System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des Reitens toter Pferde aufzuspü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37372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r erklären jeden, der behauptet, dass es eine Alternative zum System des Reitens toter Pferde gäbe, zum Verfassungsfeind und die Organ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itglieder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ebender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ferde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eutschlands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- abgekürzt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MLP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zu einer Bedrohung für unsere öffentliche Ordn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869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Strategie der Dakota-India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73200" y="404640"/>
            <a:ext cx="419580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5229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ir ersparen Ihnen weitere Managerstrategien und verraten Ihnen stattdessen, die Strategie der Dakota-India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5877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ie besagt: Wenn du entdeckst, dass du ein totes Pferd reite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62373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…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Steig a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0000"/>
            </a:gs>
            <a:gs pos="100000">
              <a:srgbClr val="52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1484280"/>
            <a:ext cx="849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ahoma"/>
              </a:rPr>
              <a:t>Nähere Infos unter www.mlpd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561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Viele Dakota-Indianer würden übrigens MLPD wähl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2:22:16Z</dcterms:created>
  <dc:creator>Administrator</dc:creator>
  <dc:description/>
  <dc:language>en-US</dc:language>
  <cp:lastModifiedBy>ref</cp:lastModifiedBy>
  <dcterms:modified xsi:type="dcterms:W3CDTF">2009-09-22T13:32:23Z</dcterms:modified>
  <cp:revision>16</cp:revision>
  <dc:subject/>
  <dc:title>Folie 1</dc:title>
</cp:coreProperties>
</file>